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362-57C6-4B4E-91BA-D4576F12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48F-F82D-46B3-B36D-751DF6C8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F77-52B1-47EA-94CE-031332FF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F95-5D05-4342-B737-6175787F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BBA-6C3C-4F61-9028-D4644A9E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F44-6AD1-4DD1-96DF-1B0F6B8F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F39-68C7-4243-8331-41F24E7F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971-05A3-4B9D-8197-7F291B07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990-09C5-4C4C-A72A-C26FD189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1C56-A777-4DDE-9F47-0FF1C596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F38-AE8F-47EB-9B98-F3BC125A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CC4E-92E8-4C38-BA50-244033DA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6669-49AE-4C5C-A03F-EAF826EA3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Bradley Hand ITC"/>
              </a:rPr>
              <a:t>Anne F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Bradley Hand ITC"/>
              </a:rPr>
              <a:t>By: Morgan Malloy &amp; Katie W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547720" cy="3047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4952880"/>
            <a:ext cx="2590560" cy="5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 F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nosleinad6.files.wordpress.com/2009/09/anne-frank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Background Informa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 : 1929 in Frankfurt, Germa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th : 1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Name : Anneliese Marie Fra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of Death : Typ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adley Hand ITC"/>
              </a:rPr>
              <a:t>Famil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: Edith F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her: Otto F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r: Margot Frank ; Age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 was 4 years old when her father decided Germany was not sa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d to Hol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her managed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800440" cy="2943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38680" y="5943600"/>
            <a:ext cx="26672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nk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arjunpuri.files.wordpress.com/2009/06/the-frank-familymargot-otto-anne-and-edith-frank-on-merwedeplein-in-amsterdam-1941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Anne Frank: The Diary of a Young Gir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nne’s thirteenth birthday, Anne received a cloth-covered diary.  She recorded her activities in letter form to her imaginary friend named “Kitty”.  Till today, her diary is known to be a very powerful source of information still used toda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0" y="3352680"/>
            <a:ext cx="1739880" cy="2895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934320" y="62164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 Frank’s D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477120"/>
            <a:ext cx="26668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c2.api.ning.com/files/KcKUVXX4lJmVhl-gvRN4j6L1-w6PB7gUbnsxNrwnOPWlo6kkHn15SUhTAD9WZeK7gAprXEFN6Sa3Vzr3znV0q51NlHDBWpg6/DiaryofAnneFrank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Bibliograph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rank, Anne (1929–1945)."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omen in World History: A Biographical Encycloped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Ed. Anne Commire. Vol. 5. Detroit: Yorkin Publications, 2002. 724-731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ale Virtual Reference Libr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Gale. High School. 4 Dec. 2009 &lt;http://go.galegroup.com/ps/start.do?p=GVRL&amp;u=s0003&gt;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ne Frank: The Diary of a Young Girl."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nfiction Classics for Students: Presenting Analysis, Context, and Criticism on Nonfiction Wor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Ed. David M. Galens, Jennifer Smith, and Elizabeth Thomason. Detroit: Gale, 2001. 1-34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ale Virtual Reference Libr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Gale. High School. 4 Dec. 2009 &lt;http://go.galegroup.com/ps/start.do?p=GVRL&amp;u=s0003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58:56Z</dcterms:created>
  <dc:creator>11143</dc:creator>
  <dc:description/>
  <dc:language>en-US</dc:language>
  <cp:lastModifiedBy>11143</cp:lastModifiedBy>
  <dcterms:modified xsi:type="dcterms:W3CDTF">2010-01-06T15:27:43Z</dcterms:modified>
  <cp:revision>5</cp:revision>
  <dc:subject/>
  <dc:title>Anne Frank</dc:title>
</cp:coreProperties>
</file>